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7"/>
          </p:nvPr>
        </p:nvSpPr>
        <p:spPr>
          <a:xfrm>
            <a:off x="108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FF85-4BC3-4AE0-8238-F29EF63C884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25C45-CEC2-4A93-AC21-4B50997454BB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C57C6-FAC8-40FA-B150-6C6FD1925203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683B9-9B5E-44F5-BD8D-98C4EAD73F7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2CEA2-D846-4DFA-A45B-5D2DACCD552F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15ACA-EFCB-4D6D-B04F-48933B99834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81E0C-5701-4EFD-972B-3C2A5FC7B79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90430-ACEE-4986-B5B8-4C0B711C7F38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A3A3A-2EA8-4FDE-8037-19F2DC321AF2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E331E-7130-4156-919B-D064EDB6BCB6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144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rtl="1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4C3C1-D928-42C4-A0BB-2DA8364D65B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EB4-BA31-4213-80FE-55CE702D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55E-075A-4DFD-9097-12F507E1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8D0-C3C6-4878-84B7-416DFEDC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130-03E7-4D65-BD7E-DCCF1220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1BDA-5E90-4E97-84EA-37717815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32E0-55B4-4A12-ACB8-4A091123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B067-6797-4280-8154-E216AAD9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5995-54D0-4E34-937E-C81BF61F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E24D-0550-4DE7-867F-8330347D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DD9F-AACC-4DE0-BD6F-AD5B59DF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6AA3-73A1-49DA-A1DA-BA457F4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879-299D-4D55-A393-D3DF2118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46A5-9B79-4E24-A48F-A19F4C6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A7B9-CD7A-4B0B-B228-5004CD84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B45D-CA1D-4BD1-9B60-4EDF70AE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F712-C4A1-419C-ADDA-67AE8AE4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B7C-968F-48B9-A839-1D83B5FE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DE268-AB16-42F3-A9BC-68810340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1FBD-C4E0-4321-9F38-09E8F0BB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F954-9EA1-4300-83C0-4B94C9D6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0CA1-4E6E-4A09-8597-C10E3882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1261-A620-4DBA-985F-22D6727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204-E78F-45AA-92ED-E17158CF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34A1-9C0C-4804-AE31-E9F4E37A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5BAD-8133-4F34-A8F5-02F29B4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43CA-35CF-4FAE-BFC1-76F7229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94C3-63BA-4AB9-B46B-C934F75C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D47B-224C-455F-BD0B-56736C4B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037A-BAAB-472A-A32E-A65EBDB2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A3B5C-E20E-44E8-AC1F-6BA57EC0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4DBAE-1914-426A-B820-A55298C7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D6768-5EFF-4FE4-8EA1-00226C17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16DED-0ECF-41E2-924B-2095EFAD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A17-0B30-47AF-91F9-8BBB00D0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62315-FF9B-4D0E-A755-1762A873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0640A-6160-4046-9FF7-139A4312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0369D-955D-4C48-AE91-0D48DD5D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C4FDD-5FD7-46D0-A5AF-158F172B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F750-2EA6-42B9-9E4F-BF6A56A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79FA-5B08-4B8F-A725-E2C59226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807D2-19AC-4B70-ADB3-952A731C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403F-73CC-4B0C-B64F-D05D023A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4A4F-97F1-42B0-81F2-4FD4B762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61C02-41C5-4F2B-9634-32FE87FA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194-3845-493D-93BC-226CD868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B477B-0A15-43AF-BB0C-FFCB16D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57D6-ED33-4E9E-92FC-7F7690CE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DD39-F98E-4957-8E43-71FBAC5B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AB663-4CDD-425A-AE9B-B1CD3472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EE9B-2DCC-429F-AC13-A6054544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4578E-2B9A-4AC8-9555-99640CB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61440-3B8A-4A8E-9B12-078244F6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25FD0-9AD8-44AB-BD66-2F668BA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4FB0B-E14E-4A29-8C6D-0074232F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45206-3808-4FDF-8C56-09C6CAD1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AEF-4112-410A-A878-9655376A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88E85-BA2B-49F4-9842-0FF64A2A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590-6F7E-4027-9E54-05E3CE82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021-6199-4DA6-A53E-E4D188CE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3AC-59F0-470F-A649-E134BF0F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במרץ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he-I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דר' אסנת אלד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he-I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A2E726-7216-4A61-9B0E-41F1629A0202}" type="slidenum"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13</a:t>
            </a:r>
            <a:r>
              <a: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 </a:t>
            </a:r>
            <a:r>
              <a: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rPr>
              <a:t>במרץ </a:t>
            </a:r>
            <a:r>
              <a: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rPr>
              <a:t>דר' אסנת אלד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9CAA6E9-C625-4BD5-A0AF-5383964DE3B2}" type="slidenum">
              <a: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13</a:t>
            </a:r>
            <a:r>
              <a:rPr b="0" lang="en-US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 </a:t>
            </a:r>
            <a:r>
              <a: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rPr>
              <a:t>במרץ </a:t>
            </a:r>
            <a:r>
              <a: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200" spc="-1" strike="noStrike">
                <a:solidFill>
                  <a:srgbClr val="001e5b"/>
                </a:solidFill>
                <a:latin typeface="Times New Roman"/>
                <a:cs typeface="Tahoma"/>
              </a:rPr>
              <a:t>דר' אסנת אלד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119A0D2-51E3-4006-86C1-FC7F9AD074A8}" type="slidenum">
              <a:rPr b="0" lang="he-IL" sz="1200" spc="-1" strike="noStrike">
                <a:solidFill>
                  <a:srgbClr val="001e5b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15375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13</a:t>
            </a:r>
            <a:r>
              <a: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 </a:t>
            </a:r>
            <a:r>
              <a: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rPr>
              <a:t>במרץ </a:t>
            </a:r>
            <a:r>
              <a: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rPr>
              <a:t>דר' אסנת אלד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F9BBFB-915D-4D00-AFD7-4B20194FA271}" type="slidenum">
              <a: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89bbe">
                  <a:alpha val="46274"/>
                </a:srgbClr>
              </a:gs>
              <a:gs pos="100000">
                <a:srgbClr val="9bfa23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bd29">
                  <a:alpha val="46274"/>
                </a:srgbClr>
              </a:gs>
              <a:gs pos="100000">
                <a:srgbClr val="37c0f0">
                  <a:alpha val="3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98" name="Group 4"/>
            <p:cNvGrpSpPr/>
            <p:nvPr/>
          </p:nvGrpSpPr>
          <p:grpSpPr>
            <a:xfrm>
              <a:off x="-19080" y="203040"/>
              <a:ext cx="9154800" cy="646200"/>
              <a:chOff x="-19080" y="203040"/>
              <a:chExt cx="9154800" cy="646200"/>
            </a:xfrm>
          </p:grpSpPr>
          <p:pic>
            <p:nvPicPr>
              <p:cNvPr id="199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01" name="Group 7"/>
            <p:cNvGrpSpPr/>
            <p:nvPr/>
          </p:nvGrpSpPr>
          <p:grpSpPr>
            <a:xfrm>
              <a:off x="-19080" y="247680"/>
              <a:ext cx="9178920" cy="560520"/>
              <a:chOff x="-19080" y="247680"/>
              <a:chExt cx="9178920" cy="560520"/>
            </a:xfrm>
          </p:grpSpPr>
          <p:pic>
            <p:nvPicPr>
              <p:cNvPr id="20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 algn="r" rtl="1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1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2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3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4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5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lvl="6" marL="343080" indent="-343080" algn="r" rtl="1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13</a:t>
            </a:r>
            <a:r>
              <a:rPr b="0" lang="en-US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 </a:t>
            </a:r>
            <a:r>
              <a: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rPr>
              <a:t>במרץ </a:t>
            </a:r>
            <a:r>
              <a: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520" y="6356160"/>
            <a:ext cx="33512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1200" spc="-1" strike="noStrike">
                <a:solidFill>
                  <a:srgbClr val="1f2541"/>
                </a:solidFill>
                <a:latin typeface="Times New Roman"/>
                <a:cs typeface="Tahoma"/>
              </a:rPr>
              <a:t>דר' אסנת אלד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8431A81-8C27-4F32-8832-538639922374}" type="slidenum">
              <a:rPr b="0" lang="he-IL" sz="1200" spc="-1" strike="noStrike">
                <a:solidFill>
                  <a:srgbClr val="1f2541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609480" y="0"/>
            <a:ext cx="8296560" cy="1962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1655640" y="1962000"/>
            <a:ext cx="5938920" cy="48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457200" y="65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e-IL" sz="3600" spc="-1" strike="noStrike">
                <a:solidFill>
                  <a:srgbClr val="212745"/>
                </a:solidFill>
                <a:latin typeface="Arial"/>
              </a:rPr>
              <a:t>מייצוג בגרף ובטבלה למידע מילולי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2349360" y="2343240"/>
            <a:ext cx="3033720" cy="819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66000"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קריאה, זיהוי מרכיבי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ואפיון קשרי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2620800" y="1546200"/>
            <a:ext cx="2730600" cy="5554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4000"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נתוני הגרף/הטבלה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1990800" y="5518080"/>
            <a:ext cx="3690720" cy="5619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5000"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בניית הסבר: הסקה או חיזו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2963880" y="3578400"/>
            <a:ext cx="2070000" cy="473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69000"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ניתוח מתמט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15" name="AutoShape 11"/>
          <p:cNvCxnSpPr/>
          <p:nvPr/>
        </p:nvCxnSpPr>
        <p:spPr>
          <a:xfrm>
            <a:off x="3026880" y="3967200"/>
            <a:ext cx="1080" cy="155160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16" name="AutoShape 12"/>
          <p:cNvCxnSpPr/>
          <p:nvPr/>
        </p:nvCxnSpPr>
        <p:spPr>
          <a:xfrm>
            <a:off x="3987360" y="3188880"/>
            <a:ext cx="1080" cy="26604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17" name="Rectangle 13"/>
          <p:cNvSpPr/>
          <p:nvPr/>
        </p:nvSpPr>
        <p:spPr>
          <a:xfrm>
            <a:off x="1728720" y="2289240"/>
            <a:ext cx="5686560" cy="182556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1763640" y="4417920"/>
            <a:ext cx="5686560" cy="181620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8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5154480" y="2571840"/>
            <a:ext cx="2222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תהליכי עיבוד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חזותי ומתמט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5632560" y="4487760"/>
            <a:ext cx="17334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תהליכי המרה ובנייה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17"/>
          <p:cNvCxnSpPr/>
          <p:nvPr/>
        </p:nvCxnSpPr>
        <p:spPr>
          <a:xfrm>
            <a:off x="2620440" y="3233520"/>
            <a:ext cx="1080" cy="228348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22" name="AutoShape 18"/>
          <p:cNvCxnSpPr/>
          <p:nvPr/>
        </p:nvCxnSpPr>
        <p:spPr>
          <a:xfrm>
            <a:off x="5352840" y="3191040"/>
            <a:ext cx="1080" cy="232776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23" name="Rectangle 19"/>
          <p:cNvSpPr/>
          <p:nvPr/>
        </p:nvSpPr>
        <p:spPr>
          <a:xfrm>
            <a:off x="3070080" y="4365720"/>
            <a:ext cx="2121120" cy="946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בניית ייצוג חזותי או השלמתו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4" name="AutoShape 20"/>
          <p:cNvCxnSpPr/>
          <p:nvPr/>
        </p:nvCxnSpPr>
        <p:spPr>
          <a:xfrm>
            <a:off x="4138200" y="3930480"/>
            <a:ext cx="1080" cy="48816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25" name="AutoShape 21"/>
          <p:cNvCxnSpPr/>
          <p:nvPr/>
        </p:nvCxnSpPr>
        <p:spPr>
          <a:xfrm>
            <a:off x="4266720" y="5246640"/>
            <a:ext cx="1080" cy="27072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26" name="AutoShape 22"/>
          <p:cNvSpPr/>
          <p:nvPr/>
        </p:nvSpPr>
        <p:spPr>
          <a:xfrm>
            <a:off x="539640" y="5327640"/>
            <a:ext cx="719280" cy="647640"/>
          </a:xfrm>
          <a:custGeom>
            <a:avLst/>
            <a:gdLst>
              <a:gd name="textAreaLeft" fmla="*/ 118800 w 719280"/>
              <a:gd name="textAreaRight" fmla="*/ 519120 w 71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-3123300"/>
                <a:lnTo>
                  <a:pt x="21373" y="5400"/>
                </a:lnTo>
                <a:lnTo>
                  <a:pt x="16737" y="0"/>
                </a:lnTo>
                <a:lnTo>
                  <a:pt x="11646" y="5400"/>
                </a:lnTo>
                <a:lnTo>
                  <a:pt x="14078" y="5400"/>
                </a:lnTo>
                <a:arcTo wR="7153" hR="21600" stAng="2276700" swAng="2713756"/>
                <a:lnTo>
                  <a:pt x="9584" y="20314"/>
                </a:lnTo>
                <a:arcTo wR="7153" hR="21600" stAng="5809544" swAng="4990456"/>
                <a:close/>
              </a:path>
              <a:path fill="darkenLess"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409544"/>
                <a:lnTo>
                  <a:pt x="9584" y="20314"/>
                </a:lnTo>
                <a:arcTo wR="7153" hR="21600" stAng="5809544" swAng="4990456"/>
                <a:close/>
              </a:path>
            </a:pathLst>
          </a:custGeom>
          <a:solidFill>
            <a:srgbClr val="002060"/>
          </a:solidFill>
          <a:ln cap="sq"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5000" spc="-1" strike="noStrike">
                <a:solidFill>
                  <a:srgbClr val="212745"/>
                </a:solidFill>
                <a:latin typeface="Arial"/>
              </a:rPr>
              <a:t>אוריינות</a:t>
            </a: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411120" y="196704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מערכת של התנהגויות חברתיות ותרבותיות הקשורות לשפה על פני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ואופנויותי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הרבים, תוך שימת דגש על השפה (הכתובה והדבורה) ועל ההקשרים השונים שבהן היא משמשת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אוריינות איננה מילה נרדפת למיומנויות הקריאה והכתיבה, אלא היא כוללת אותן, כחלק ממערך כללי של ידע, של עמדות ושל אמונות אודות השפה (הכתובה והדבורה) ושימושי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5000" spc="-1" strike="noStrike">
                <a:solidFill>
                  <a:srgbClr val="212745"/>
                </a:solidFill>
                <a:latin typeface="Arial"/>
              </a:rPr>
              <a:t>אוריינות מדעית</a:t>
            </a:r>
            <a:r>
              <a:rPr b="0" lang="en-US" sz="5000" spc="-1" strike="noStrike">
                <a:solidFill>
                  <a:srgbClr val="212745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11120" y="195264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אוריינות מדעית הינה מכלול מיומנויות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המאפשרות ליחיד להתמודד עם מצבים, בעיות וסוגיות מחיי היום-יום הדורשים הבנה במדע וטכנולוגיה. מיותר לציין עד כמה מסוגלות זו חיונית לכל אזרח הן ברמה האישית והן ברמות קהילתיות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0" y="3886200"/>
            <a:ext cx="4975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4500" spc="-1" strike="noStrike">
                <a:solidFill>
                  <a:srgbClr val="212745"/>
                </a:solidFill>
                <a:latin typeface="Arial"/>
              </a:rPr>
              <a:t>למה לשלב אוריינות בשיעורי הפיזיקה</a:t>
            </a:r>
            <a:r>
              <a:rPr b="0" lang="en-US" sz="4500" spc="-1" strike="noStrike">
                <a:solidFill>
                  <a:srgbClr val="212745"/>
                </a:solidFill>
                <a:latin typeface="Arial"/>
              </a:rPr>
              <a:t>?</a:t>
            </a:r>
            <a:endParaRPr b="0" lang="en-US" sz="4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זה חשוב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זה חלק מהותי בהוראת הפיזיק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1440" indent="-2714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אנחנו תמיד מחנכים לז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...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5000" spc="-1" strike="noStrike">
                <a:solidFill>
                  <a:srgbClr val="212745"/>
                </a:solidFill>
                <a:latin typeface="Arial"/>
              </a:rPr>
              <a:t>מיומנויות אוריינות בפיזיקה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המרה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יצוג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דע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לולי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לתרשים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הסבר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דעי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ניסוח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שאלת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חקר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המרה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יצוג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דע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בתרשים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לייצוג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לולי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 algn="r" rtl="1">
              <a:lnSpc>
                <a:spcPct val="150000"/>
              </a:lnSpc>
              <a:spcBef>
                <a:spcPts val="649"/>
              </a:spcBef>
              <a:buClr>
                <a:srgbClr val="a7ea52"/>
              </a:buClr>
              <a:buSzPct val="95000"/>
              <a:buFont typeface="Arial"/>
              <a:buAutoNum type="alphaU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המרה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מייצוג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he-IL" sz="2600" spc="-1" strike="noStrike" u="sng">
                <a:solidFill>
                  <a:srgbClr val="ccccff"/>
                </a:solidFill>
                <a:uFillTx/>
                <a:latin typeface="Arial"/>
              </a:rPr>
              <a:t>בגרף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ובטבלה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למידע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e-IL" sz="2600" spc="-1" strike="noStrike">
                <a:solidFill>
                  <a:srgbClr val="002060"/>
                </a:solidFill>
                <a:latin typeface="Arial"/>
              </a:rPr>
              <a:t>מילולי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838080"/>
            <a:ext cx="9143640" cy="4092480"/>
            <a:chOff x="0" y="838080"/>
            <a:chExt cx="9143640" cy="4092480"/>
          </a:xfrm>
        </p:grpSpPr>
        <p:sp>
          <p:nvSpPr>
            <p:cNvPr id="265" name="Text Box 3"/>
            <p:cNvSpPr/>
            <p:nvPr/>
          </p:nvSpPr>
          <p:spPr>
            <a:xfrm>
              <a:off x="719280" y="838080"/>
              <a:ext cx="77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he-IL" sz="3600" spc="-1" strike="noStrike">
                  <a:solidFill>
                    <a:srgbClr val="002060"/>
                  </a:solidFill>
                  <a:latin typeface="Calibri"/>
                </a:rPr>
                <a:t>מייצוג מידע מילולי לתרשים</a:t>
              </a:r>
              <a:endParaRPr b="0" lang="en-US" sz="3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6" name="Rectangle 4"/>
            <p:cNvSpPr/>
            <p:nvPr/>
          </p:nvSpPr>
          <p:spPr>
            <a:xfrm>
              <a:off x="0" y="2643120"/>
              <a:ext cx="9143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r" rtl="1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7" name="Rectangle 5"/>
            <p:cNvSpPr/>
            <p:nvPr/>
          </p:nvSpPr>
          <p:spPr>
            <a:xfrm>
              <a:off x="1911240" y="1836720"/>
              <a:ext cx="4823640" cy="4539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התמליל (טקסט) שיש להמיר לתרשים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4799880" y="2840040"/>
              <a:ext cx="3167280" cy="465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רמזים בתמליל (טקסט)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269" name="AutoShape 8"/>
            <p:cNvCxnSpPr>
              <a:stCxn id="268" idx="1"/>
              <a:endCxn id="270" idx="3"/>
            </p:cNvCxnSpPr>
            <p:nvPr/>
          </p:nvCxnSpPr>
          <p:spPr>
            <a:xfrm flipH="1">
              <a:off x="3835080" y="3072960"/>
              <a:ext cx="964440" cy="35640"/>
            </a:xfrm>
            <a:prstGeom prst="straightConnector1">
              <a:avLst/>
            </a:prstGeom>
            <a:ln cap="sq" w="2844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270" name="Text Box 9"/>
            <p:cNvSpPr/>
            <p:nvPr/>
          </p:nvSpPr>
          <p:spPr>
            <a:xfrm>
              <a:off x="2667240" y="2874960"/>
              <a:ext cx="1168560" cy="4651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תמצית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271" name="AutoShape 10"/>
            <p:cNvCxnSpPr>
              <a:stCxn id="270" idx="2"/>
              <a:endCxn id="272" idx="0"/>
            </p:cNvCxnSpPr>
            <p:nvPr/>
          </p:nvCxnSpPr>
          <p:spPr>
            <a:xfrm>
              <a:off x="3251160" y="3340080"/>
              <a:ext cx="1515240" cy="729360"/>
            </a:xfrm>
            <a:prstGeom prst="straightConnector1">
              <a:avLst/>
            </a:prstGeom>
            <a:ln cap="sq" w="2844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272" name="Rectangle 11"/>
            <p:cNvSpPr/>
            <p:nvPr/>
          </p:nvSpPr>
          <p:spPr>
            <a:xfrm>
              <a:off x="1454040" y="4068720"/>
              <a:ext cx="6624000" cy="86184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התאמה בין הרמזים לבין הפריטים והסמלים המוסכמים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3" name="Rectangle 5"/>
          <p:cNvSpPr/>
          <p:nvPr/>
        </p:nvSpPr>
        <p:spPr>
          <a:xfrm>
            <a:off x="2565360" y="5900760"/>
            <a:ext cx="4822920" cy="4539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יצירת תרשי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5B2F01-57C2-4400-A48A-BC90B744F389}" type="slidenum">
              <a:rPr b="0" lang="he-IL" sz="1200" spc="-1" strike="noStrike">
                <a:solidFill>
                  <a:srgbClr val="1f25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2489040" y="4871880"/>
            <a:ext cx="4113360" cy="1127160"/>
          </a:xfrm>
          <a:prstGeom prst="flowChartAlternateProcess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940040" y="1814400"/>
            <a:ext cx="4661640" cy="2398320"/>
            <a:chOff x="1940040" y="1814400"/>
            <a:chExt cx="4661640" cy="2398320"/>
          </a:xfrm>
        </p:grpSpPr>
        <p:sp>
          <p:nvSpPr>
            <p:cNvPr id="277" name="Text Box 5"/>
            <p:cNvSpPr/>
            <p:nvPr/>
          </p:nvSpPr>
          <p:spPr>
            <a:xfrm flipH="1">
              <a:off x="1940040" y="3297960"/>
              <a:ext cx="2846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Times New Roman"/>
                </a:rPr>
                <a:t>ידע מדעי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 flipH="1">
              <a:off x="4795920" y="3297960"/>
              <a:ext cx="1805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Times New Roman"/>
                </a:rPr>
                <a:t>מצב נתון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9" name="Text Box 7"/>
            <p:cNvSpPr/>
            <p:nvPr/>
          </p:nvSpPr>
          <p:spPr>
            <a:xfrm flipH="1">
              <a:off x="2963520" y="1814400"/>
              <a:ext cx="31982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Times New Roman"/>
                </a:rPr>
                <a:t>מושא ההסבר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0" name="AutoShape 9"/>
          <p:cNvSpPr/>
          <p:nvPr/>
        </p:nvSpPr>
        <p:spPr>
          <a:xfrm>
            <a:off x="4722840" y="3235320"/>
            <a:ext cx="2055960" cy="725400"/>
          </a:xfrm>
          <a:prstGeom prst="flowChartAlternateProcess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2343240" y="3206880"/>
            <a:ext cx="2143080" cy="876240"/>
          </a:xfrm>
          <a:prstGeom prst="flowChartAlternateProcess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Text Box 11"/>
          <p:cNvSpPr/>
          <p:nvPr/>
        </p:nvSpPr>
        <p:spPr>
          <a:xfrm flipH="1">
            <a:off x="2036880" y="4780080"/>
            <a:ext cx="50133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Times New Roman"/>
              </a:rPr>
              <a:t>ניסוח תחבירי נכון של ההסב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83" name="AutoShape 12"/>
          <p:cNvCxnSpPr/>
          <p:nvPr/>
        </p:nvCxnSpPr>
        <p:spPr>
          <a:xfrm flipH="1">
            <a:off x="4465440" y="3963960"/>
            <a:ext cx="1961280" cy="82296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84" name="AutoShape 13"/>
          <p:cNvCxnSpPr/>
          <p:nvPr/>
        </p:nvCxnSpPr>
        <p:spPr>
          <a:xfrm>
            <a:off x="2782440" y="4084200"/>
            <a:ext cx="1669320" cy="702360"/>
          </a:xfrm>
          <a:prstGeom prst="straightConnector1">
            <a:avLst/>
          </a:prstGeom>
          <a:ln cap="sq" w="2844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285" name="AutoShape 14"/>
          <p:cNvSpPr/>
          <p:nvPr/>
        </p:nvSpPr>
        <p:spPr>
          <a:xfrm>
            <a:off x="3220920" y="1874880"/>
            <a:ext cx="2751120" cy="704880"/>
          </a:xfrm>
          <a:prstGeom prst="flowChartAlternateProcess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900000" y="5373720"/>
            <a:ext cx="719280" cy="647640"/>
          </a:xfrm>
          <a:custGeom>
            <a:avLst/>
            <a:gdLst>
              <a:gd name="textAreaLeft" fmla="*/ 118800 w 719280"/>
              <a:gd name="textAreaRight" fmla="*/ 519120 w 71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-3123300"/>
                <a:lnTo>
                  <a:pt x="21373" y="5400"/>
                </a:lnTo>
                <a:lnTo>
                  <a:pt x="16737" y="0"/>
                </a:lnTo>
                <a:lnTo>
                  <a:pt x="11646" y="5400"/>
                </a:lnTo>
                <a:lnTo>
                  <a:pt x="14078" y="5400"/>
                </a:lnTo>
                <a:arcTo wR="7153" hR="21600" stAng="2276700" swAng="2713756"/>
                <a:lnTo>
                  <a:pt x="9584" y="20314"/>
                </a:lnTo>
                <a:arcTo wR="7153" hR="21600" stAng="5809544" swAng="4990456"/>
                <a:close/>
              </a:path>
              <a:path fill="darkenLess"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409544"/>
                <a:lnTo>
                  <a:pt x="9584" y="20314"/>
                </a:lnTo>
                <a:arcTo wR="7153" hR="21600" stAng="5809544" swAng="4990456"/>
                <a:close/>
              </a:path>
            </a:pathLst>
          </a:custGeom>
          <a:solidFill>
            <a:srgbClr val="002060"/>
          </a:solidFill>
          <a:ln cap="sq"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719280" y="83808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e-IL" sz="3600" spc="-1" strike="noStrike">
                <a:solidFill>
                  <a:srgbClr val="002060"/>
                </a:solidFill>
                <a:latin typeface="Calibri"/>
              </a:rPr>
              <a:t>הסבר מדעי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900000" y="5373720"/>
            <a:ext cx="719280" cy="647640"/>
          </a:xfrm>
          <a:custGeom>
            <a:avLst/>
            <a:gdLst>
              <a:gd name="textAreaLeft" fmla="*/ 118800 w 719280"/>
              <a:gd name="textAreaRight" fmla="*/ 519120 w 71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-3123300"/>
                <a:lnTo>
                  <a:pt x="21373" y="5400"/>
                </a:lnTo>
                <a:lnTo>
                  <a:pt x="16737" y="0"/>
                </a:lnTo>
                <a:lnTo>
                  <a:pt x="11646" y="5400"/>
                </a:lnTo>
                <a:lnTo>
                  <a:pt x="14078" y="5400"/>
                </a:lnTo>
                <a:arcTo wR="7153" hR="21600" stAng="2276700" swAng="2713756"/>
                <a:lnTo>
                  <a:pt x="9584" y="20314"/>
                </a:lnTo>
                <a:arcTo wR="7153" hR="21600" stAng="5809544" swAng="4990456"/>
                <a:close/>
              </a:path>
              <a:path fill="darkenLess"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409544"/>
                <a:lnTo>
                  <a:pt x="9584" y="20314"/>
                </a:lnTo>
                <a:arcTo wR="7153" hR="21600" stAng="5809544" swAng="4990456"/>
                <a:close/>
              </a:path>
            </a:pathLst>
          </a:custGeom>
          <a:solidFill>
            <a:srgbClr val="002060"/>
          </a:solidFill>
          <a:ln cap="sq"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30280" y="9349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e-IL" sz="3600" spc="-1" strike="noStrike">
                <a:solidFill>
                  <a:srgbClr val="002060"/>
                </a:solidFill>
                <a:latin typeface="Calibri"/>
              </a:rPr>
              <a:t>ניסוח שאלת חקר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213372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160800" y="1968480"/>
            <a:ext cx="2374920" cy="50328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מושא החק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2" name="Group 1"/>
          <p:cNvGrpSpPr/>
          <p:nvPr/>
        </p:nvGrpSpPr>
        <p:grpSpPr>
          <a:xfrm>
            <a:off x="725400" y="3559320"/>
            <a:ext cx="7199280" cy="574560"/>
            <a:chOff x="725400" y="3559320"/>
            <a:chExt cx="7199280" cy="574560"/>
          </a:xfrm>
        </p:grpSpPr>
        <p:sp>
          <p:nvSpPr>
            <p:cNvPr id="293" name="Text Box 10"/>
            <p:cNvSpPr/>
            <p:nvPr/>
          </p:nvSpPr>
          <p:spPr>
            <a:xfrm>
              <a:off x="5478480" y="3559320"/>
              <a:ext cx="2446200" cy="5209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משתנה בלתי תלוי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3030480" y="3559320"/>
              <a:ext cx="2157480" cy="5745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גורם/ים קבוע/ים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5" name="Text Box 12"/>
            <p:cNvSpPr/>
            <p:nvPr/>
          </p:nvSpPr>
          <p:spPr>
            <a:xfrm>
              <a:off x="725400" y="3559320"/>
              <a:ext cx="1998720" cy="5032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משתנה תלוי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96" name="AutoShape 13"/>
          <p:cNvCxnSpPr/>
          <p:nvPr/>
        </p:nvCxnSpPr>
        <p:spPr>
          <a:xfrm flipH="1">
            <a:off x="5187600" y="4161960"/>
            <a:ext cx="1650240" cy="139788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97" name="AutoShape 14"/>
          <p:cNvCxnSpPr/>
          <p:nvPr/>
        </p:nvCxnSpPr>
        <p:spPr>
          <a:xfrm>
            <a:off x="1828440" y="4160520"/>
            <a:ext cx="2135880" cy="143244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98" name="AutoShape 15"/>
          <p:cNvCxnSpPr/>
          <p:nvPr/>
        </p:nvCxnSpPr>
        <p:spPr>
          <a:xfrm flipH="1">
            <a:off x="4342680" y="4232160"/>
            <a:ext cx="5400" cy="132336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299" name="AutoShape 16"/>
          <p:cNvSpPr/>
          <p:nvPr/>
        </p:nvSpPr>
        <p:spPr>
          <a:xfrm>
            <a:off x="3124080" y="5603760"/>
            <a:ext cx="253368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ניסוח תחבירי נכון של שאלת החק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900000" y="5373720"/>
            <a:ext cx="719280" cy="647640"/>
          </a:xfrm>
          <a:custGeom>
            <a:avLst/>
            <a:gdLst>
              <a:gd name="textAreaLeft" fmla="*/ 118800 w 719280"/>
              <a:gd name="textAreaRight" fmla="*/ 519120 w 71928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-3123300"/>
                <a:lnTo>
                  <a:pt x="21373" y="5400"/>
                </a:lnTo>
                <a:lnTo>
                  <a:pt x="16737" y="0"/>
                </a:lnTo>
                <a:lnTo>
                  <a:pt x="11646" y="5400"/>
                </a:lnTo>
                <a:lnTo>
                  <a:pt x="14078" y="5400"/>
                </a:lnTo>
                <a:arcTo wR="7153" hR="21600" stAng="2276700" swAng="2713756"/>
                <a:lnTo>
                  <a:pt x="9584" y="20314"/>
                </a:lnTo>
                <a:arcTo wR="7153" hR="21600" stAng="5809544" swAng="4990456"/>
                <a:close/>
              </a:path>
              <a:path fill="darkenLess" w="21600" h="21600">
                <a:moveTo>
                  <a:pt x="0" y="0"/>
                </a:moveTo>
                <a:arcTo wR="7153" hR="21600" stAng="10800000" swAng="-5400000"/>
                <a:lnTo>
                  <a:pt x="12016" y="21600"/>
                </a:lnTo>
                <a:arcTo wR="7153" hR="21600" stAng="5400000" swAng="409544"/>
                <a:lnTo>
                  <a:pt x="9584" y="20314"/>
                </a:lnTo>
                <a:arcTo wR="7153" hR="21600" stAng="5809544" swAng="4990456"/>
                <a:close/>
              </a:path>
            </a:pathLst>
          </a:custGeom>
          <a:solidFill>
            <a:srgbClr val="002060"/>
          </a:solidFill>
          <a:ln cap="sq" w="25560">
            <a:solidFill>
              <a:srgbClr val="001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1960" y="839880"/>
            <a:ext cx="80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e-IL" sz="3600" spc="-1" strike="noStrike">
                <a:solidFill>
                  <a:srgbClr val="002060"/>
                </a:solidFill>
                <a:latin typeface="Calibri"/>
              </a:rPr>
              <a:t>מייצוג מידע בתרשים לייצוג מילולי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268452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664000" y="1973160"/>
            <a:ext cx="3957480" cy="4651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התרשים שיש להמיר לתמליל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04" name="Group 1"/>
          <p:cNvGrpSpPr/>
          <p:nvPr/>
        </p:nvGrpSpPr>
        <p:grpSpPr>
          <a:xfrm>
            <a:off x="2286000" y="3340080"/>
            <a:ext cx="4606920" cy="503280"/>
            <a:chOff x="2286000" y="3340080"/>
            <a:chExt cx="4606920" cy="503280"/>
          </a:xfrm>
        </p:grpSpPr>
        <p:sp>
          <p:nvSpPr>
            <p:cNvPr id="305" name="Text Box 9"/>
            <p:cNvSpPr/>
            <p:nvPr/>
          </p:nvSpPr>
          <p:spPr>
            <a:xfrm>
              <a:off x="4591080" y="3352680"/>
              <a:ext cx="2301840" cy="4906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סמלים מוסכמים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Text Box 10"/>
            <p:cNvSpPr/>
            <p:nvPr/>
          </p:nvSpPr>
          <p:spPr>
            <a:xfrm>
              <a:off x="2286000" y="3340080"/>
              <a:ext cx="1436760" cy="4906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he-IL" sz="2400" spc="-1" strike="noStrike">
                  <a:solidFill>
                    <a:srgbClr val="002060"/>
                  </a:solidFill>
                  <a:latin typeface="Arial"/>
                </a:rPr>
                <a:t>פריטים</a:t>
              </a: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7" name="AutoShape 11"/>
          <p:cNvCxnSpPr>
            <a:stCxn id="306" idx="2"/>
          </p:cNvCxnSpPr>
          <p:nvPr/>
        </p:nvCxnSpPr>
        <p:spPr>
          <a:xfrm>
            <a:off x="3004920" y="3830400"/>
            <a:ext cx="957960" cy="138348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08" name="AutoShape 12"/>
          <p:cNvCxnSpPr/>
          <p:nvPr/>
        </p:nvCxnSpPr>
        <p:spPr>
          <a:xfrm flipH="1">
            <a:off x="5409720" y="3898800"/>
            <a:ext cx="751680" cy="1315440"/>
          </a:xfrm>
          <a:prstGeom prst="straightConnector1">
            <a:avLst/>
          </a:prstGeom>
          <a:ln cap="sq" w="381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09" name="AutoShape 13"/>
          <p:cNvSpPr/>
          <p:nvPr/>
        </p:nvSpPr>
        <p:spPr>
          <a:xfrm>
            <a:off x="1835280" y="5213520"/>
            <a:ext cx="5614920" cy="483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e-IL" sz="2400" spc="-1" strike="noStrike">
                <a:solidFill>
                  <a:srgbClr val="002060"/>
                </a:solidFill>
                <a:latin typeface="Arial"/>
              </a:rPr>
              <a:t>ניסוח "סיפור" של התרשי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9:45:26Z</dcterms:created>
  <dc:creator>osnat_o</dc:creator>
  <dc:description/>
  <dc:language>en-US</dc:language>
  <cp:lastModifiedBy>Irina Veisman</cp:lastModifiedBy>
  <dcterms:modified xsi:type="dcterms:W3CDTF">2014-04-05T19:26:28Z</dcterms:modified>
  <cp:revision>25</cp:revision>
  <dc:subject/>
  <dc:title>אוריינות בשיעורי הפיזיקה</dc:title>
</cp:coreProperties>
</file>